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02CA-5D05-438A-A6FE-D1DA4590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8D9-6181-455F-B791-E5378B01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972-6F3D-4D36-AD64-0860826C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025-A450-48E1-84B6-024FAAEF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E18-DC78-42E6-A438-852EFB11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B0-E181-4865-BB54-E067AA5E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35C-428D-4F19-B3BF-207274B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297-123D-49AC-86A6-1DBF252D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8F9-C1E6-4790-A743-7EFFB423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D77-E6B1-4132-B09F-A0646035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CFD-2773-4996-B179-B6BF6FD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4BC-EAD9-4400-9BF0-0CA366F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320-21FC-4D1B-B161-1C6C420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1286-64C1-4619-BE38-61695F21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3-11-18T18:18:51Z</dcterms:modified>
  <cp:revision>69</cp:revision>
  <dc:subject/>
  <dc:title>Molecular Genetics</dc:title>
</cp:coreProperties>
</file>